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0639250"/>
        <c:axId val="79048147"/>
      </c:barChart>
      <c:catAx>
        <c:axId val="4063925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048147"/>
        <c:crosses val="autoZero"/>
        <c:auto val="1"/>
        <c:lblAlgn val="ctr"/>
        <c:lblOffset val="100"/>
        <c:noMultiLvlLbl val="0"/>
      </c:catAx>
      <c:valAx>
        <c:axId val="7904814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63925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B70E-F27A-4810-A33B-5BB517C87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CAEC-4D65-488E-AE03-D459B7288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6AD5-B31F-4655-9035-9B75F2780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F791-2773-4827-BDA2-AEFD2854E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F229-F304-4B26-899A-4BD1D3F5E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3B32-092D-4C49-8A6C-7DC1B861B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216D-4A6A-4650-9154-142EBE098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2E37-0126-4D71-97FF-EACE681F2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5139-6DDA-461D-ABF5-29D5F2752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D072-37AB-49EF-8D12-194D455A7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C175-1FDB-44F4-9565-DD97778DB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3325-CF40-49AD-82A0-C86C1DA7F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FFDBB9-F7ED-4021-9B03-A892BB95AE2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