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23775"/>
        <c:axId val="6102926"/>
      </c:barChart>
      <c:catAx>
        <c:axId val="27923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2926"/>
        <c:crosses val="autoZero"/>
        <c:auto val="1"/>
        <c:lblAlgn val="ctr"/>
        <c:lblOffset val="100"/>
        <c:noMultiLvlLbl val="0"/>
      </c:catAx>
      <c:valAx>
        <c:axId val="6102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23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B4AC-16AE-4AC2-B23E-D0061EBD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65B-9F2B-4833-A125-FB6E3DC8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940-14C6-46E8-9CB4-1BC22CEF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72A6-CAD4-4F5B-B872-739A1BA0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9FD-0AC2-46A3-B03D-2C9065AE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F47-E592-4F67-AC3F-AE3F23A7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2027-B47A-4824-A32B-48EDB279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309-EBC7-4B15-9E5B-638548F4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A4A9-61D5-4013-B372-74A70D2C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58FD-0129-4F0B-B045-A94D36DD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778-1835-4A77-B85A-204E28A3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8C0-EDB0-4EC8-A6BA-9A30202B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49207-A7BF-4FFB-BBEF-0AAF0EB708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