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32693"/>
        <c:axId val="42239077"/>
      </c:barChart>
      <c:catAx>
        <c:axId val="98632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39077"/>
        <c:crosses val="autoZero"/>
        <c:auto val="1"/>
        <c:lblAlgn val="ctr"/>
        <c:lblOffset val="100"/>
        <c:noMultiLvlLbl val="0"/>
      </c:catAx>
      <c:valAx>
        <c:axId val="42239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32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6E5-9114-4B14-A814-4E6BC384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ECC-0804-4D0D-8C85-95C7FC5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AB1-DE0D-426D-BCF0-7ED3FFA2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CAE-3C1B-40A2-983B-A9BF30D8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97C-B6A3-43CA-8D7A-97E6597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D2D-E169-4A37-8827-949FC606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D22-28E2-4B86-AF7E-2613FC5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B84-3541-40B4-B2D4-2DBB83B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D2B-44C0-48B2-A352-329A3AD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3CC-2A79-440E-A1CE-5E27A23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399-0898-4564-8EBE-8D863F7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3B0-A739-47BB-AED6-D900487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794EC-6BC0-4955-9B04-C4DF41268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