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50399"/>
        <c:axId val="26278245"/>
      </c:barChart>
      <c:catAx>
        <c:axId val="61150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78245"/>
        <c:crosses val="autoZero"/>
        <c:auto val="1"/>
        <c:lblAlgn val="ctr"/>
        <c:lblOffset val="100"/>
        <c:noMultiLvlLbl val="0"/>
      </c:catAx>
      <c:valAx>
        <c:axId val="26278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50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AC3-2D7A-4D2A-B26F-E769D20C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861-00B4-4CC3-B124-4A9A4CAF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2FF-F582-447A-A52A-D37140A9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B4D-85A1-4AC6-B4F8-B764BB44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E78-338B-42E7-BD65-5C220EB1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87A-CEA5-4779-9E11-26B8DB89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BE3-44F6-4240-9F83-8E286652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AF1-84A8-4066-938B-0B426249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542-4327-4263-BE4C-B7A6B548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E9D-15FB-4577-A26B-B5D3C991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B8F-BDED-439C-AE0C-7683C2C9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ED3-BD3A-4F88-92E7-20D21AAD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B81A7-ECEB-43D1-99D2-6BDD971B32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