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253568"/>
        <c:axId val="11477858"/>
      </c:barChart>
      <c:catAx>
        <c:axId val="41253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7858"/>
        <c:crosses val="autoZero"/>
        <c:auto val="1"/>
        <c:lblAlgn val="ctr"/>
        <c:lblOffset val="100"/>
        <c:noMultiLvlLbl val="0"/>
      </c:catAx>
      <c:valAx>
        <c:axId val="11477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53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A5D-4C35-49C0-9B36-1C6D1DA3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C90-835C-487D-9D69-BED63FFA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211-2ADD-47D1-81E5-60DF42ED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5CE-02B3-4895-ABA3-5105898C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7DD-19D7-49A9-B8CD-8F40934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E99-7BFA-4148-A356-24C1C7C9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4F99-6A4D-4FD7-87AE-C4B67E15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D5D-2B60-49D7-8440-A742F83D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A8A3-5E02-4CC9-88A3-2A5547BA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D5F-F7E0-4D55-90C9-59754F0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161-8248-4470-97F5-5228B1C0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C6F-A719-4035-87D2-DAEE907A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8129D-E057-4839-8AE6-85DDB652B9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