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01673"/>
        <c:axId val="61524627"/>
      </c:barChart>
      <c:catAx>
        <c:axId val="46501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24627"/>
        <c:crosses val="autoZero"/>
        <c:auto val="1"/>
        <c:lblAlgn val="ctr"/>
        <c:lblOffset val="100"/>
        <c:noMultiLvlLbl val="0"/>
      </c:catAx>
      <c:valAx>
        <c:axId val="61524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01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57A-C940-4C1D-872E-59BE01E3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145-A80E-4BF0-910C-DE115966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B0A-177A-424A-99A1-DAC8FDAC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FB0-BF62-450B-A277-5B9A7C1A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137-1B72-4B7A-8B44-97E2D036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6DE-82F3-4D01-811C-7C3014C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591-8AD7-4479-8B7C-A8E3027F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088-A427-4C76-9F2D-DB194D95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36D-A53B-43CE-BDF3-9F87E775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CA2-2EB2-4FF5-94D4-E4245E52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2BC-89DD-4507-A74A-CC0DA4A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899-EDB7-43CD-8AB9-376C186B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83C11-646C-43E0-94E5-85ED7B7336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