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83922"/>
        <c:axId val="92428304"/>
      </c:barChart>
      <c:catAx>
        <c:axId val="17383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8304"/>
        <c:crosses val="autoZero"/>
        <c:auto val="1"/>
        <c:lblAlgn val="ctr"/>
        <c:lblOffset val="100"/>
        <c:noMultiLvlLbl val="0"/>
      </c:catAx>
      <c:valAx>
        <c:axId val="92428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3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06F-4FB2-4F62-B539-E1B49E4E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7BE-BA85-4A09-9354-913E83D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B55-B83F-45D0-812E-796448EF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BD3-BACE-496D-A69B-37FFCC7C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30-1A55-4453-B9D6-87FF3BC3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CD9-12C8-43B0-8DA1-2051DF5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82F-F47E-45A1-BF77-8095AD69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962-DCB2-4A91-9090-021D566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72E-C2DB-41F3-A7D9-4A799F9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199-D6E2-4B63-AC80-9DFD6EE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371-D327-41F4-8E6F-CC7049A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D85-D075-48B5-B83F-D10190D4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00EC0-9F1E-4EBC-9F13-7D1A1FB9B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