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80659"/>
        <c:axId val="10164582"/>
      </c:barChart>
      <c:catAx>
        <c:axId val="35280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64582"/>
        <c:crosses val="autoZero"/>
        <c:auto val="1"/>
        <c:lblAlgn val="ctr"/>
        <c:lblOffset val="100"/>
        <c:noMultiLvlLbl val="0"/>
      </c:catAx>
      <c:valAx>
        <c:axId val="10164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80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6C1-B330-4A90-89E8-718C1C8B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2A2-8982-4960-8077-FF3E528E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9F1-7156-4E47-A21C-027FF81C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136-919B-4D83-83CE-350E31A4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40E-8542-4D9E-B513-38E7A295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F8D-AC3F-47B8-B6DE-996617C4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179-D6DF-4650-ABC6-27E34EBE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7F4-19A4-4657-9DCE-1AC85ECF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D58-F4A7-4F47-B8F8-2BC256A4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958-A4C5-4563-B738-812AFDC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B56-0435-44AB-83D7-B86E83D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937-EDA0-4B97-81D0-F14270C3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8A597-022C-4AC7-BEF5-176E38DE8A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