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86831"/>
        <c:axId val="90897050"/>
      </c:barChart>
      <c:catAx>
        <c:axId val="97686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97050"/>
        <c:crosses val="autoZero"/>
        <c:auto val="1"/>
        <c:lblAlgn val="ctr"/>
        <c:lblOffset val="100"/>
        <c:noMultiLvlLbl val="0"/>
      </c:catAx>
      <c:valAx>
        <c:axId val="90897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6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67C-6ECF-4493-80B4-448CBFB7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35A-4004-4F03-B346-F28358C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90F-6110-4BBC-873F-1E62B223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E54-D1C7-4100-B53F-C8BB5340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174-DB03-421D-8F2B-3E1B3486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A5C-ED62-42FD-8090-0D216014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2B7-F361-4FE2-B204-2C280654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4E8-2B59-419D-9641-5CAB59D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BAB-CB72-4E64-9A32-D371DDA8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719-6323-4C9C-9DBF-04D76D2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4DF-2353-469F-B6AB-A6F7006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1E3-974E-4485-99CE-14CD407E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90F4-B206-43C7-A09B-1A21247FC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