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0735"/>
        <c:axId val="39918810"/>
      </c:barChart>
      <c:catAx>
        <c:axId val="1510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8810"/>
        <c:crosses val="autoZero"/>
        <c:auto val="1"/>
        <c:lblAlgn val="ctr"/>
        <c:lblOffset val="100"/>
        <c:noMultiLvlLbl val="0"/>
      </c:catAx>
      <c:valAx>
        <c:axId val="39918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21F-F384-43EC-93B4-C064D127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3F3-080C-4DA3-B9CE-5F6EFD6B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9F8-956A-446D-A9E6-FBE56A84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88F-214E-4C1C-B12B-9BD9A6EC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76B-855C-4D83-9D5E-8C37875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FAD-4517-40B3-8BBA-1643A192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E21-8362-4AD6-908C-592C0FF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92D-67FA-4820-95EA-2AD0B96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FCD-F6EC-4099-AC22-1FFF420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EA2-23DF-4758-8C0F-45E6C50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33C-793F-42FD-AB35-4419224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B69-2E95-4A25-AF78-3C9D60C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B8E1-F7E4-41D3-8116-630E85DCFB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