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19308"/>
        <c:axId val="15882729"/>
      </c:barChart>
      <c:catAx>
        <c:axId val="41919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82729"/>
        <c:crosses val="autoZero"/>
        <c:auto val="1"/>
        <c:lblAlgn val="ctr"/>
        <c:lblOffset val="100"/>
        <c:noMultiLvlLbl val="0"/>
      </c:catAx>
      <c:valAx>
        <c:axId val="15882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19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EBD-1AA6-41D0-A53C-F27EEB62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861-BD81-4E3B-A183-C9B994CD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B76-2F27-4130-AC9B-55E8C90A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CDF-BA37-4385-8365-549B6FC9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0BF-1BB2-45E7-AE59-420EA287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079-E836-4A38-9F12-D1F5C549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A59-532D-4A4D-8302-880794B5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3BB-CADA-433F-9A01-758A02DB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E38-2CB0-4BB4-B9C4-22266AB8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FD5-2BA1-44EC-98D0-6C0F6EEA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769-A5BA-4001-926C-76EF0C1C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9F7-D7F0-4CAB-A131-53D5B427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B211E-9DB7-4AE4-8C2D-1EBB499583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