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115223"/>
        <c:axId val="36058761"/>
      </c:barChart>
      <c:catAx>
        <c:axId val="211152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58761"/>
        <c:crosses val="autoZero"/>
        <c:auto val="1"/>
        <c:lblAlgn val="ctr"/>
        <c:lblOffset val="100"/>
        <c:noMultiLvlLbl val="0"/>
      </c:catAx>
      <c:valAx>
        <c:axId val="360587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152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94A-ECA9-4690-B72D-E2A685D1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83A-419D-40A7-8A62-E7D9831F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328-6F79-43E1-832D-C1C6EE1E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94E3-9612-414E-981B-CB391DF7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164-DF0D-4B6E-A40B-FB8F75CD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812-36A3-4A26-BFCE-8356090A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452-40FC-498A-BFD1-D755E393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95C-6C45-42B8-A570-0ECD124D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DB5-1BD4-4233-81CB-2F81739C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7EF-2B97-4582-B52A-5FD83305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527-DD96-40A7-82AD-B2FF4F25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F88-5522-4109-9E66-00AFB32B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59AE0-AF05-4041-B538-C23879302E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