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574888"/>
        <c:axId val="3843147"/>
      </c:barChart>
      <c:catAx>
        <c:axId val="465748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3147"/>
        <c:crosses val="autoZero"/>
        <c:auto val="1"/>
        <c:lblAlgn val="ctr"/>
        <c:lblOffset val="100"/>
        <c:noMultiLvlLbl val="0"/>
      </c:catAx>
      <c:valAx>
        <c:axId val="38431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748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9D15-21F6-4E61-B509-491BFC191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379D-4908-4458-8AC7-C9C93606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5F6D-5F0C-4510-A5D2-3535E6B49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44CC-3542-4A82-9AAD-3A8D44CFF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6048-6585-4261-8BD9-85E42B1D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2C24-07CD-40C1-AF71-DAB08D66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F329-FE18-4893-B01F-A233B868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7C29-7480-438B-9763-0A948080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63C9-458A-4FAF-A4D4-91056283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CDB2-AF10-4C3E-8D47-A4B98488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7311-6243-48D6-A61B-40015E52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C951-B5D2-4D5D-9059-BF05FBA7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540616-A811-4EA4-8F66-912E9BABA0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