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3616"/>
        <c:axId val="92903480"/>
      </c:barChart>
      <c:catAx>
        <c:axId val="8413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03480"/>
        <c:crosses val="autoZero"/>
        <c:auto val="1"/>
        <c:lblAlgn val="ctr"/>
        <c:lblOffset val="100"/>
        <c:noMultiLvlLbl val="0"/>
      </c:catAx>
      <c:valAx>
        <c:axId val="92903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3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7E5-D95A-4AFD-B84D-3E6F9F60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F52-A558-4E79-83CC-4C899D0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717-25B7-4D91-9CCD-3587BE72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334-A28E-4AC7-8165-7E31BC9B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52B-684C-4FB6-A7A9-0FDF32E8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7FE-6DAF-4539-91D7-13053D2B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F5F-0C0D-4CFF-BC4A-E03E740A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4F3-0B08-489E-8E34-AABAE1C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EEC-96C5-49B0-9052-57D5B0C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7EF-366D-4FC1-8187-174D9D09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4FA-20D6-4A67-9B17-245056AB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7FF-EFFC-492A-A01B-E48DCC4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7CDDF-331C-48D1-87E7-946E00785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