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87581"/>
        <c:axId val="67093813"/>
      </c:barChart>
      <c:catAx>
        <c:axId val="71987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3813"/>
        <c:crosses val="autoZero"/>
        <c:auto val="1"/>
        <c:lblAlgn val="ctr"/>
        <c:lblOffset val="100"/>
        <c:noMultiLvlLbl val="0"/>
      </c:catAx>
      <c:valAx>
        <c:axId val="67093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7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2B1-C48B-4E9C-99A9-10669820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A26-616C-4854-8741-6A02080A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4F9-A7DD-4802-95F1-275699AF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EDB-1003-4A85-914A-7530D4E8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0F0-6EA5-4EE8-92C9-01CCACA5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E03-6667-4E14-9AA3-CAF9E7EB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3B2-B9D6-4BED-A8CE-12CCC27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0C7-9CCF-40D3-8B40-B8C9D30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F0E-18E0-4E8B-9CD3-5F0861AE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169-F066-4AAD-9B79-3F567B3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F7D-DFA8-47FC-A5C7-B9B2EB4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721-4A42-48CD-9F82-727C506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75CED-275D-48F0-9995-EA1FEB964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